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336-1A09-48CD-9B37-2BB6C4C2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F06-0D79-4FAA-AA5A-FB82384F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32D-AB03-465E-BE26-FA809977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FE4-7CB2-4DD0-9316-525FF224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AB24-B673-4039-97A1-D463A179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093E-2CE7-418F-8152-CDE92339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9983-C9E4-49B7-B399-C3A0088A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7D4D-1B63-4E68-8435-FFFBA274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D14D-CD24-4F65-A8AE-F1357E65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09BB-2E0F-4DF0-B783-77380D06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8683-634D-435B-9816-61380809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3A7-7409-4F4B-ADCC-27F9C20F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22F5-F33F-4536-94E9-79D0CF53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A255-86F2-43D7-8420-433D6612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97CE-A722-48D3-A021-DA4E2980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4928-B2A8-4FE6-90CA-323CBB15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4F66-1D76-4884-9735-9F54AAA9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561E1-6320-459B-8FE4-7725D15D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A3D5D-254C-4C70-9BFC-D9C4EAEF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F1935-1916-4351-AF07-693BFA08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670B-63EC-4251-96D3-F5276645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FCDF-649F-47AA-B665-99CEC42C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BA4-612E-48F0-803B-670D1643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EB62-DCF1-48E4-9B75-3A6968F1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3FDC-7BA1-4C69-BEDD-F3A6D8A5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1D0E-E55B-4C4F-A471-A7C59A87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B38A-E93C-4948-AF4A-4A25D4DA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C69E-11D8-4DD5-A82A-613AFFF2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9AD6-C203-4598-BBEF-AD37B097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0BD7-287B-42E9-8923-C6129373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B1A2F-3CF5-4351-92E4-446D35A8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A517-8894-4A3F-9CEB-97E060C8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3E7E-4EE5-4FDD-9261-90BB24CC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9B5-A046-4251-BBAD-BA45A78B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E06B-F2FC-434E-BEAA-8AB2CA13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1B1C-7C77-47EA-A01D-01818C6B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A6F9-9436-4F3B-906A-8FC7FD1D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224B3-F66B-48B8-9486-52E0D90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8569C-C20C-45EA-A289-2482B18A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14E3-5F73-46AD-BC72-201BFCA3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D3180-A96B-496D-A545-077E1E36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22E6-511E-4590-A3DD-BA599597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E879-6A17-4B60-945B-605E1CA7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B03F2-9A3E-4C9F-B177-02D975F8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F93-4169-4569-B5C4-1330781D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EADA1-0494-448A-9556-4660410E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70FC8-0FA2-4988-A61A-4DA09B4B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44FAE-2514-4E2F-A87B-0F3AAE39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9BA20-B370-421C-8890-0CFF213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6EE14-844B-4B2A-965B-01959F28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4607-B8DE-490A-BC2F-65E9E9EA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E472D-A3B6-4821-A6FE-C3CFD5B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EB0C-1127-4E97-86E6-26F79A23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FB2D3-2FA9-4AEE-874A-41FA6DD8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EC024-F76B-4F96-80CB-17EC963F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0E6-ED39-4A6E-BBC1-803AA7B4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58068-904C-4462-BCF4-6A79FFBB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9078B-13D6-4F68-AC86-2408EEAE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CDE8B-A16A-47CD-ABDB-8A1FF364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1A01F-942A-4FB2-B26F-818ADF8C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03AD-7A51-47DC-9489-F73BC899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EEC9F-2F66-440C-85EF-3748005D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83898-EE95-4D9A-A646-37074C1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EF3A3-AC3E-4290-BE3A-6273D7A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9DF86-3960-491F-A7B7-B39417FC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ADEB9-5534-4D87-BD69-D5DA6C4E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E2E-FB06-4ABB-BA94-E457056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B4706-160C-4BF9-97AE-E987CC73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1D549-4EDD-481A-830A-465A6AF7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E21E1-1E62-4950-B7E7-940F9328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90BE4-7308-42C5-A02A-F066DB7D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F112D-655A-4B49-883F-1A97C19A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AD562-12E9-4396-B149-1790AFD8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31AD1-D5A0-4C87-B486-836331CA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038D2-6B9C-4B34-AFDD-267EEED9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5DCC5-F114-4874-AB0E-C924E9BD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827CD-B2F3-4A9A-8A13-EEA21B00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F60-8EF9-4D24-8339-B485F93D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A6B42-AE95-4DD5-B7BE-C2E8A19C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1B6A4-AEF2-46DC-9B48-97D3047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34A1B-7A12-43A6-8143-891E0F44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001C4-4B55-41AD-8587-7C22EB6B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46083-A4D8-4A09-BB74-5BE04853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EC0-B4B0-48CD-BAF3-FAD2A388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5563-9992-47B4-9CD9-AD6218B4CB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31E7-AD81-4068-A446-5AC1A5C1DCA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9F00-8399-4DAF-A785-D4A72CA709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FD2C-7CE8-4AEC-9C78-B6A5D47DB4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ACA3-180C-4EBC-97AC-D7B87E1574D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F996-DA6D-4B06-907D-F9D8338DAB8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C04F-7559-446F-BC68-76C51BC890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285560" y="214200"/>
            <a:ext cx="7643880" cy="1214640"/>
          </a:xfrm>
          <a:prstGeom prst="rect">
            <a:avLst/>
          </a:prstGeom>
          <a:solidFill>
            <a:srgbClr val="faae76"/>
          </a:solidFill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«Наша школьная столовая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МОУ «Средняя школа №33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Рисунок 3" descr="1634721511635.jpg"/>
          <p:cNvPicPr/>
          <p:nvPr/>
        </p:nvPicPr>
        <p:blipFill>
          <a:blip r:embed="rId1"/>
          <a:stretch/>
        </p:blipFill>
        <p:spPr>
          <a:xfrm>
            <a:off x="1571760" y="1500120"/>
            <a:ext cx="2309760" cy="5000760"/>
          </a:xfrm>
          <a:prstGeom prst="rect">
            <a:avLst/>
          </a:prstGeom>
          <a:ln w="57240">
            <a:solidFill>
              <a:srgbClr val="2a6d7d"/>
            </a:solidFill>
            <a:miter/>
          </a:ln>
        </p:spPr>
      </p:pic>
      <p:pic>
        <p:nvPicPr>
          <p:cNvPr id="320" name="Рисунок 4" descr="1634721511629.jpg"/>
          <p:cNvPicPr/>
          <p:nvPr/>
        </p:nvPicPr>
        <p:blipFill>
          <a:blip r:embed="rId2"/>
          <a:stretch/>
        </p:blipFill>
        <p:spPr>
          <a:xfrm>
            <a:off x="6143760" y="1714680"/>
            <a:ext cx="2286000" cy="4949640"/>
          </a:xfrm>
          <a:prstGeom prst="rect">
            <a:avLst/>
          </a:prstGeom>
          <a:ln w="57240">
            <a:solidFill>
              <a:srgbClr val="2a6d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1468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Наша столовая самая лучшая!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13920" y="550080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тая, здоровая школьная столовая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есь уютно и, на диво, очень стильно и красив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гантно дружно в ряд стулья и столы стоя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хнет вкусно, аппетитно, здесь накормят очень сыт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6500880" y="785880"/>
            <a:ext cx="25718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а столова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ходится на перво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же школьно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ания. Каждый ден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питаемся 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ловой, котора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ет 5 дней 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ел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4" descr="1634721511616.jpg"/>
          <p:cNvPicPr/>
          <p:nvPr/>
        </p:nvPicPr>
        <p:blipFill>
          <a:blip r:embed="rId1"/>
          <a:stretch/>
        </p:blipFill>
        <p:spPr>
          <a:xfrm>
            <a:off x="2786040" y="928800"/>
            <a:ext cx="2046240" cy="4429080"/>
          </a:xfrm>
          <a:prstGeom prst="rect">
            <a:avLst/>
          </a:prstGeom>
          <a:ln w="57240">
            <a:solidFill>
              <a:srgbClr val="2a6d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428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есь всегда уютно, комфортно и здорово!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142720" y="5428800"/>
            <a:ext cx="6000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5400" indent="-2754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и входе имеются умывальники для мытья рук, электросушилки для рук, дозаторы для мыла, дезинфекция рук, облучатели-рециркуляторы воздух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5" descr="1634572615947.jpg"/>
          <p:cNvPicPr/>
          <p:nvPr/>
        </p:nvPicPr>
        <p:blipFill>
          <a:blip r:embed="rId1"/>
          <a:stretch/>
        </p:blipFill>
        <p:spPr>
          <a:xfrm>
            <a:off x="2000160" y="1000080"/>
            <a:ext cx="2616120" cy="42148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6" descr="1634572615942.jpg"/>
          <p:cNvPicPr/>
          <p:nvPr/>
        </p:nvPicPr>
        <p:blipFill>
          <a:blip r:embed="rId2"/>
          <a:stretch/>
        </p:blipFill>
        <p:spPr>
          <a:xfrm>
            <a:off x="5929200" y="1000080"/>
            <a:ext cx="2279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одительский контро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Объект 3" descr=""/>
          <p:cNvPicPr/>
          <p:nvPr/>
        </p:nvPicPr>
        <p:blipFill>
          <a:blip r:embed="rId1"/>
          <a:stretch/>
        </p:blipFill>
        <p:spPr>
          <a:xfrm>
            <a:off x="3924360" y="1460520"/>
            <a:ext cx="2519280" cy="44816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4" descr=""/>
          <p:cNvPicPr/>
          <p:nvPr/>
        </p:nvPicPr>
        <p:blipFill>
          <a:blip r:embed="rId2"/>
          <a:stretch/>
        </p:blipFill>
        <p:spPr>
          <a:xfrm>
            <a:off x="6659640" y="1989000"/>
            <a:ext cx="194472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5" descr=""/>
          <p:cNvPicPr/>
          <p:nvPr/>
        </p:nvPicPr>
        <p:blipFill>
          <a:blip r:embed="rId3"/>
          <a:stretch/>
        </p:blipFill>
        <p:spPr>
          <a:xfrm>
            <a:off x="1447920" y="4437000"/>
            <a:ext cx="1635120" cy="21798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"/>
          <p:cNvPicPr/>
          <p:nvPr/>
        </p:nvPicPr>
        <p:blipFill>
          <a:blip r:embed="rId4"/>
          <a:stretch/>
        </p:blipFill>
        <p:spPr>
          <a:xfrm>
            <a:off x="1135080" y="1216080"/>
            <a:ext cx="22604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16" descr="1634572615956.jpg"/>
          <p:cNvPicPr/>
          <p:nvPr/>
        </p:nvPicPr>
        <p:blipFill>
          <a:blip r:embed="rId1"/>
          <a:stretch/>
        </p:blipFill>
        <p:spPr>
          <a:xfrm>
            <a:off x="3714840" y="642960"/>
            <a:ext cx="1500120" cy="3247920"/>
          </a:xfrm>
          <a:prstGeom prst="rect">
            <a:avLst/>
          </a:prstGeom>
          <a:ln w="0">
            <a:noFill/>
          </a:ln>
        </p:spPr>
      </p:pic>
      <p:sp>
        <p:nvSpPr>
          <p:cNvPr id="335" name="Содержимое 2"/>
          <p:cNvSpPr/>
          <p:nvPr/>
        </p:nvSpPr>
        <p:spPr>
          <a:xfrm>
            <a:off x="957240" y="5958000"/>
            <a:ext cx="73296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ара улыбчивы, добры, кормят нас всех от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признательны им, каждый день «СПАСИБО» говор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В столовой нашей повара – кулинарии мастера!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Рисунок 8" descr="Scan0005.jpg"/>
          <p:cNvPicPr/>
          <p:nvPr/>
        </p:nvPicPr>
        <p:blipFill>
          <a:blip r:embed="rId2"/>
          <a:stretch/>
        </p:blipFill>
        <p:spPr>
          <a:xfrm>
            <a:off x="5214960" y="4143240"/>
            <a:ext cx="3041640" cy="2094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9" descr="Scan0004.jpg"/>
          <p:cNvPicPr/>
          <p:nvPr/>
        </p:nvPicPr>
        <p:blipFill>
          <a:blip r:embed="rId3"/>
          <a:stretch/>
        </p:blipFill>
        <p:spPr>
          <a:xfrm>
            <a:off x="1428840" y="4143240"/>
            <a:ext cx="3036960" cy="20718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2" descr="1634572615966.jpg"/>
          <p:cNvPicPr/>
          <p:nvPr/>
        </p:nvPicPr>
        <p:blipFill>
          <a:blip r:embed="rId4"/>
          <a:stretch/>
        </p:blipFill>
        <p:spPr>
          <a:xfrm>
            <a:off x="1714680" y="642960"/>
            <a:ext cx="1450800" cy="3143160"/>
          </a:xfrm>
          <a:prstGeom prst="rect">
            <a:avLst/>
          </a:prstGeom>
          <a:ln w="0">
            <a:noFill/>
          </a:ln>
        </p:spPr>
      </p:pic>
      <p:sp>
        <p:nvSpPr>
          <p:cNvPr id="340" name="Волна 15"/>
          <p:cNvSpPr/>
          <p:nvPr/>
        </p:nvSpPr>
        <p:spPr>
          <a:xfrm rot="501000">
            <a:off x="528480" y="3250800"/>
            <a:ext cx="3372120" cy="639720"/>
          </a:xfrm>
          <a:custGeom>
            <a:avLst/>
            <a:gdLst>
              <a:gd name="textAreaLeft" fmla="*/ 0 w 3372120"/>
              <a:gd name="textAreaRight" fmla="*/ 3372480 w 3372120"/>
              <a:gd name="textAreaTop" fmla="*/ 159840 h 639720"/>
              <a:gd name="textAreaBottom" fmla="*/ 4798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5d3d3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ликова Альмира Хамдамовна–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ф-п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13" descr="1634572615961.jpg"/>
          <p:cNvPicPr/>
          <p:nvPr/>
        </p:nvPicPr>
        <p:blipFill>
          <a:blip r:embed="rId5"/>
          <a:stretch/>
        </p:blipFill>
        <p:spPr>
          <a:xfrm>
            <a:off x="6072120" y="642960"/>
            <a:ext cx="1484280" cy="3214800"/>
          </a:xfrm>
          <a:prstGeom prst="rect">
            <a:avLst/>
          </a:prstGeom>
          <a:ln w="0">
            <a:noFill/>
          </a:ln>
        </p:spPr>
      </p:pic>
      <p:sp>
        <p:nvSpPr>
          <p:cNvPr id="342" name="Волна 14"/>
          <p:cNvSpPr/>
          <p:nvPr/>
        </p:nvSpPr>
        <p:spPr>
          <a:xfrm rot="501000">
            <a:off x="4956120" y="3320640"/>
            <a:ext cx="3470400" cy="628560"/>
          </a:xfrm>
          <a:custGeom>
            <a:avLst/>
            <a:gdLst>
              <a:gd name="textAreaLeft" fmla="*/ 0 w 3470400"/>
              <a:gd name="textAreaRight" fmla="*/ 3470760 w 3470400"/>
              <a:gd name="textAreaTop" fmla="*/ 156960 h 628560"/>
              <a:gd name="textAreaBottom" fmla="*/ 471600 h 6285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5d3d3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унова Валентина Петровна–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0012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продукты мы употребляем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928800"/>
          <a:ext cx="2643480" cy="3006720"/>
        </p:xfrm>
        <a:graphic>
          <a:graphicData uri="http://schemas.openxmlformats.org/drawingml/2006/table">
            <a:tbl>
              <a:tblPr/>
              <a:tblGrid>
                <a:gridCol w="500400"/>
                <a:gridCol w="21430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1224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леб ржаной, хлеб пшени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1224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1224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3891a7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вощи, фрукты, ягоды, со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1224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3891a7">
                        <a:alpha val="20000"/>
                      </a:srgbClr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лочные  проду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3891a7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я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3891a7">
                        <a:alpha val="20000"/>
                      </a:srgbClr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3891a7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й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3891a7">
                        <a:alpha val="20000"/>
                      </a:srgbClr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адости (редк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Заголовок 1"/>
          <p:cNvSpPr/>
          <p:nvPr/>
        </p:nvSpPr>
        <p:spPr>
          <a:xfrm>
            <a:off x="1214280" y="6000840"/>
            <a:ext cx="79297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правильно питаться, со здоровьем будем зна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6" descr="855165.jpeg"/>
          <p:cNvPicPr/>
          <p:nvPr/>
        </p:nvPicPr>
        <p:blipFill>
          <a:blip r:embed="rId1"/>
          <a:srcRect l="14847" t="27114" r="42969" b="9511"/>
          <a:stretch/>
        </p:blipFill>
        <p:spPr>
          <a:xfrm>
            <a:off x="3929040" y="6429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8" descr="ПШЕНИЧНЫЙ-3.jpg"/>
          <p:cNvPicPr/>
          <p:nvPr/>
        </p:nvPicPr>
        <p:blipFill>
          <a:blip r:embed="rId2"/>
          <a:stretch/>
        </p:blipFill>
        <p:spPr>
          <a:xfrm rot="714000">
            <a:off x="4868640" y="612720"/>
            <a:ext cx="1184040" cy="92880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14" descr="400_400 (1).jpg"/>
          <p:cNvPicPr/>
          <p:nvPr/>
        </p:nvPicPr>
        <p:blipFill>
          <a:blip r:embed="rId3"/>
          <a:srcRect l="11433" t="0" r="0" b="5717"/>
          <a:stretch/>
        </p:blipFill>
        <p:spPr>
          <a:xfrm>
            <a:off x="1357200" y="4143240"/>
            <a:ext cx="1611360" cy="171468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5" descr="myaso-1728x800_c.jpg"/>
          <p:cNvPicPr/>
          <p:nvPr/>
        </p:nvPicPr>
        <p:blipFill>
          <a:blip r:embed="rId4"/>
          <a:stretch/>
        </p:blipFill>
        <p:spPr>
          <a:xfrm>
            <a:off x="3429000" y="4429080"/>
            <a:ext cx="3086280" cy="142884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6" descr="fish_PNG1147.png"/>
          <p:cNvPicPr/>
          <p:nvPr/>
        </p:nvPicPr>
        <p:blipFill>
          <a:blip r:embed="rId5"/>
          <a:stretch/>
        </p:blipFill>
        <p:spPr>
          <a:xfrm>
            <a:off x="6286680" y="3357720"/>
            <a:ext cx="2066760" cy="8492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7" descr="fish_PNG1147.png"/>
          <p:cNvPicPr/>
          <p:nvPr/>
        </p:nvPicPr>
        <p:blipFill>
          <a:blip r:embed="rId6"/>
          <a:stretch/>
        </p:blipFill>
        <p:spPr>
          <a:xfrm rot="19534200">
            <a:off x="6438960" y="3509640"/>
            <a:ext cx="2066760" cy="8492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8" descr="2_1256.jpg"/>
          <p:cNvPicPr/>
          <p:nvPr/>
        </p:nvPicPr>
        <p:blipFill>
          <a:blip r:embed="rId7"/>
          <a:stretch/>
        </p:blipFill>
        <p:spPr>
          <a:xfrm>
            <a:off x="6519960" y="4572000"/>
            <a:ext cx="2124000" cy="13525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9" descr="0_7fb28_a4e6abc4_orig.png"/>
          <p:cNvPicPr/>
          <p:nvPr/>
        </p:nvPicPr>
        <p:blipFill>
          <a:blip r:embed="rId8"/>
          <a:stretch/>
        </p:blipFill>
        <p:spPr>
          <a:xfrm>
            <a:off x="6067440" y="571680"/>
            <a:ext cx="2647800" cy="12999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20" descr="38548ff38cb3.png"/>
          <p:cNvPicPr/>
          <p:nvPr/>
        </p:nvPicPr>
        <p:blipFill>
          <a:blip r:embed="rId9"/>
          <a:stretch/>
        </p:blipFill>
        <p:spPr>
          <a:xfrm>
            <a:off x="6357960" y="1928880"/>
            <a:ext cx="2428920" cy="15699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21" descr="1b556fad66.jpg"/>
          <p:cNvPicPr/>
          <p:nvPr/>
        </p:nvPicPr>
        <p:blipFill>
          <a:blip r:embed="rId10"/>
          <a:stretch/>
        </p:blipFill>
        <p:spPr>
          <a:xfrm>
            <a:off x="4071960" y="1857240"/>
            <a:ext cx="1928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7T11:16:42Z</dcterms:created>
  <dc:creator>Раиса</dc:creator>
  <dc:description/>
  <dc:language>en-US</dc:language>
  <cp:lastModifiedBy>k-209</cp:lastModifiedBy>
  <dcterms:modified xsi:type="dcterms:W3CDTF">2023-04-06T07:39:56Z</dcterms:modified>
  <cp:revision>99</cp:revision>
  <dc:subject/>
  <dc:title>Слайд 1</dc:title>
</cp:coreProperties>
</file>